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79D-6798-4B8C-8A61-51DF46C5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F51-F0A5-43AF-BE92-D6E6805E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A9A-203E-45E9-8AD9-F890F5B4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1DB-D5C0-4A70-9134-17B4134D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0E2-BCC6-49CE-990C-8E6281B2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B69-399A-4B88-B2B1-0312744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52D-9B11-4AE1-A68C-4DCF4EB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10D-F597-45B2-B1DB-A95CD80D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A02-4740-478B-B0B4-BAEDFB7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461-2D7A-421E-B0BD-DFBF93E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AB9-62A8-4692-B39B-20007963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001-A6E0-4323-9E18-F56340A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B4A0-FCA6-413E-8F98-6AE6E60F9E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6" descr=""/>
          <p:cNvPicPr/>
          <p:nvPr/>
        </p:nvPicPr>
        <p:blipFill>
          <a:blip r:embed="rId2"/>
          <a:stretch/>
        </p:blipFill>
        <p:spPr>
          <a:xfrm>
            <a:off x="6659640" y="144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9520" y="163440"/>
            <a:ext cx="187020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075280" cy="255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370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750" t="0" r="15581" b="90229"/>
          <a:stretch/>
        </p:blipFill>
        <p:spPr>
          <a:xfrm>
            <a:off x="3708360" y="2924280"/>
            <a:ext cx="5292720" cy="93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ntrevista a A. Ca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040" y="1484280"/>
            <a:ext cx="756720" cy="246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349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197000"/>
            <a:ext cx="143964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6237" t="0" r="11923" b="20666"/>
          <a:stretch/>
        </p:blipFill>
        <p:spPr>
          <a:xfrm>
            <a:off x="2771640" y="2637000"/>
            <a:ext cx="2695680" cy="388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7773" t="6857" r="12067" b="15043"/>
          <a:stretch/>
        </p:blipFill>
        <p:spPr>
          <a:xfrm>
            <a:off x="468360" y="1844640"/>
            <a:ext cx="2822400" cy="388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024360" cy="2305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73760" y="580536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422100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 u="sng">
                <a:solidFill>
                  <a:srgbClr val="000000"/>
                </a:solidFill>
                <a:uFillTx/>
                <a:latin typeface="Arial"/>
              </a:rPr>
              <a:t>Web: inese.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605320" cy="36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74840" y="1052640"/>
            <a:ext cx="150948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sponsab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1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544840" cy="3586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11169" r="0" b="0"/>
          <a:stretch/>
        </p:blipFill>
        <p:spPr>
          <a:xfrm>
            <a:off x="5940360" y="1989000"/>
            <a:ext cx="2521080" cy="177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00680" y="560700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9440" y="3789360"/>
            <a:ext cx="36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We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05264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68480" cy="504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7020" t="0" r="15913" b="0"/>
          <a:stretch/>
        </p:blipFill>
        <p:spPr>
          <a:xfrm>
            <a:off x="4067280" y="256536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3046" t="13252" r="30429" b="8111"/>
          <a:stretch/>
        </p:blipFill>
        <p:spPr>
          <a:xfrm>
            <a:off x="4716360" y="1484280"/>
            <a:ext cx="344196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rcRect l="33334" t="14476" r="30477" b="10095"/>
          <a:stretch/>
        </p:blipFill>
        <p:spPr>
          <a:xfrm>
            <a:off x="324000" y="1413000"/>
            <a:ext cx="355428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24000" y="4365720"/>
            <a:ext cx="792000" cy="180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0792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-10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907920"/>
            <a:ext cx="134172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-11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254560" cy="40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2276640"/>
            <a:ext cx="1008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04:46Z</dcterms:created>
  <dc:creator>u2498325</dc:creator>
  <dc:description/>
  <dc:language>en-US</dc:language>
  <cp:lastModifiedBy>U2499960</cp:lastModifiedBy>
  <dcterms:modified xsi:type="dcterms:W3CDTF">2011-12-05T09:21:55Z</dcterms:modified>
  <cp:revision>16</cp:revision>
  <dc:subject/>
  <dc:title>Diapositiva 1</dc:title>
</cp:coreProperties>
</file>